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9AE-A491-4289-A29C-212A4DAA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803-A60E-4F07-98EA-8B09863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46D-BBF6-4BFA-8BC5-1DA2ABE2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DC9-9821-49B3-BE5C-264531D0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7FE3-69DE-4A32-BB87-0E4AFEC3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BC2-7A1F-4E97-97F2-4D4782C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DC1F-2609-4EFE-A62F-58030B16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DD0-1A95-46C9-B1BB-1C51314C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38CC-A24F-4BB7-AE30-FEAB71AF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5866-C3CF-4187-AA70-EA4F170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E2CB-B657-4C7B-8AAF-0A1AEF4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F83-863B-4518-BFD7-788E9776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131-0C24-4DB1-8ACC-77D9F5E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8A6-ECCC-4BB8-8736-A70F607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079B-AE1E-429F-8487-F8F5567D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301-4CF7-49D3-B1CF-B025C7B0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E84C-3209-4296-B080-FCCD4262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CA0-566C-4689-819B-DD3920B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B2A-58B2-4B65-BFCA-8A51FD2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30C-B21A-4950-939A-7FAA7FB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CC4-DC04-48BA-B505-0AABCD91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E9E-22CF-46CE-9DDD-229D1E8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5C3-B270-4590-821A-E6A659E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506-D285-4F2A-BE98-A15F342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0640" cy="9142200"/>
            <a:chOff x="-207000" y="0"/>
            <a:chExt cx="215064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7800" cy="162576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760"/>
              <a:ext cx="1964880" cy="3925080"/>
              <a:chOff x="-21240" y="3578760"/>
              <a:chExt cx="1964880" cy="39250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1000" y="3643920"/>
                <a:ext cx="729360" cy="1339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120" y="5086800"/>
                <a:ext cx="200880" cy="411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50440" y="5571720"/>
                <a:ext cx="1393200" cy="1932120"/>
                <a:chOff x="550440" y="5571720"/>
                <a:chExt cx="1393200" cy="19321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6240" y="5610240"/>
                  <a:ext cx="633240" cy="914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47000" y="6692760"/>
                  <a:ext cx="146520" cy="375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20080" y="7340400"/>
                  <a:ext cx="265320" cy="63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19880"/>
              <a:ext cx="673920" cy="826200"/>
              <a:chOff x="313200" y="8219880"/>
              <a:chExt cx="673920" cy="8262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2600" y="8276040"/>
                <a:ext cx="262440" cy="187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49640" y="8731080"/>
                <a:ext cx="448920" cy="156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4600" y="8619840"/>
                <a:ext cx="469440" cy="8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2960" y="2431800"/>
                <a:ext cx="27576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5160" y="2953440"/>
                <a:ext cx="471960" cy="186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60120" y="2955240"/>
                <a:ext cx="493200" cy="95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81000" cy="9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1480" cy="442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3360" cy="27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0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600"/>
              <a:ext cx="409680" cy="516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9800" cy="243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5160"/>
              <a:ext cx="176040" cy="338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2360" cy="205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7320" y="986400"/>
              <a:ext cx="85680" cy="86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A46-76E7-4224-9DE3-24AECF5F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600" y="0"/>
            <a:ext cx="6989760" cy="9143280"/>
            <a:chOff x="-48600" y="0"/>
            <a:chExt cx="698976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4680" y="304920"/>
              <a:ext cx="3156480" cy="7854120"/>
              <a:chOff x="3784680" y="304920"/>
              <a:chExt cx="3156480" cy="78541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7280" y="479160"/>
                <a:ext cx="1584720" cy="3142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6080" y="2630880"/>
                <a:ext cx="680400" cy="1123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4440" y="3447000"/>
                <a:ext cx="329400" cy="526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4280" y="909000"/>
                <a:ext cx="291240" cy="734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600" y="3517920"/>
                <a:ext cx="123840" cy="442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85520" y="1652760"/>
                <a:ext cx="142920" cy="19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500360" y="3859920"/>
                <a:ext cx="393480" cy="435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4480" y="4141800"/>
              <a:ext cx="385200" cy="1375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7960" cy="3242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2920" cy="9712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7400" y="6042960"/>
              <a:ext cx="422280" cy="981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040" y="6305040"/>
              <a:ext cx="103320" cy="5796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4440" y="6927480"/>
              <a:ext cx="1318320" cy="2215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68640" y="1551600"/>
              <a:ext cx="960840" cy="1331280"/>
              <a:chOff x="3068640" y="1551600"/>
              <a:chExt cx="960840" cy="13312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33160" y="1647000"/>
                <a:ext cx="380880" cy="283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15320" y="2288520"/>
                <a:ext cx="651960" cy="235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78640" y="2511720"/>
                <a:ext cx="681480" cy="12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91120" y="493200"/>
              <a:ext cx="732960" cy="905400"/>
              <a:chOff x="4191120" y="493200"/>
              <a:chExt cx="732960" cy="9054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11360" y="1101960"/>
                <a:ext cx="238320" cy="27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66640" y="687960"/>
                <a:ext cx="407880" cy="225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78840" y="654840"/>
                <a:ext cx="426600" cy="114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81760" y="7047000"/>
              <a:ext cx="1083240" cy="928800"/>
              <a:chOff x="581760" y="7047000"/>
              <a:chExt cx="1083240" cy="928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73760" y="7459920"/>
                <a:ext cx="187920" cy="39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44280" y="7579800"/>
                <a:ext cx="321840" cy="332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97960" y="7132320"/>
                <a:ext cx="336600" cy="169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82880" y="696600"/>
              <a:ext cx="1480320" cy="1467720"/>
              <a:chOff x="182880" y="696600"/>
              <a:chExt cx="1480320" cy="14677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54160" y="1672200"/>
                <a:ext cx="473760" cy="39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27400" y="969480"/>
                <a:ext cx="811440" cy="329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7200" y="1410480"/>
                <a:ext cx="847800" cy="167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59480" y="5010840"/>
              <a:ext cx="902880" cy="2008440"/>
              <a:chOff x="5559480" y="5010840"/>
              <a:chExt cx="902880" cy="200844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35800" y="6290640"/>
                <a:ext cx="266400" cy="707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45400" y="5974920"/>
                <a:ext cx="456120" cy="587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06280" y="5060880"/>
                <a:ext cx="476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7920" y="3960"/>
              <a:ext cx="1023120" cy="1875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6080" y="214560"/>
              <a:ext cx="808920" cy="12549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000" y="1815480"/>
              <a:ext cx="390240" cy="5878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5640" y="1708920"/>
              <a:ext cx="146520" cy="493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7280" y="0"/>
              <a:ext cx="147240" cy="2559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5880" y="2619000"/>
              <a:ext cx="466200" cy="48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4C36-38D9-47FF-99B8-B6541D713D8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1040" y="794880"/>
            <a:ext cx="4645080" cy="47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900" spc="-1" strike="noStrike">
                <a:solidFill>
                  <a:srgbClr val="006699"/>
                </a:solidFill>
                <a:latin typeface="Verdana"/>
              </a:rPr>
              <a:t>Pass</a:t>
            </a:r>
            <a:r>
              <a:rPr b="0" lang="en-AU" sz="5900" spc="-1" strike="noStrike">
                <a:solidFill>
                  <a:srgbClr val="006699"/>
                </a:solidFill>
                <a:latin typeface="Verdana"/>
                <a:ea typeface="Arial"/>
              </a:rPr>
              <a:t>é Composé</a:t>
            </a:r>
            <a:endParaRPr b="0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66960" y="5706720"/>
            <a:ext cx="4610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 over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04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hoosing the right auxiliary verb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186920"/>
            <a:ext cx="6172200" cy="74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99"/>
                </a:solidFill>
                <a:latin typeface="Verdana"/>
              </a:rPr>
              <a:t>Is it one of the 16 “</a:t>
            </a:r>
            <a:r>
              <a:rPr b="1" lang="en-AU" sz="24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1" lang="en-AU" sz="2400" spc="-1" strike="noStrike">
                <a:solidFill>
                  <a:srgbClr val="006699"/>
                </a:solidFill>
                <a:latin typeface="Verdana"/>
              </a:rPr>
              <a:t>” verb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84640" y="2340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734080" y="2411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35720" y="320364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997360" y="3132000"/>
            <a:ext cx="22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Is it: descend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mont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sort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rentr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pass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357720" y="5068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941720" y="5148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11"/>
          <p:cNvSpPr/>
          <p:nvPr/>
        </p:nvSpPr>
        <p:spPr>
          <a:xfrm flipH="1">
            <a:off x="4872960" y="59403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Verdana"/>
              </a:rPr>
              <a:t>êt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341360" y="6012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Is there a direct object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2060640" y="6877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357720" y="68770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357720" y="7740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Verdana"/>
              </a:rPr>
              <a:t>êt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844640" y="774072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4508280" y="1692360"/>
            <a:ext cx="64908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5229360" y="1692360"/>
            <a:ext cx="64764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4508640" y="277164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950080" y="277164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3644640" y="4572000"/>
            <a:ext cx="431640" cy="431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4365720" y="4572000"/>
            <a:ext cx="79200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645000" y="5435640"/>
            <a:ext cx="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5157720" y="550872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2349360" y="6372360"/>
            <a:ext cx="64800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2997360" y="6372360"/>
            <a:ext cx="647640" cy="431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2349360" y="730872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28"/>
          <p:cNvSpPr/>
          <p:nvPr/>
        </p:nvSpPr>
        <p:spPr>
          <a:xfrm>
            <a:off x="3645000" y="730872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404640" y="1763640"/>
            <a:ext cx="288000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all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arriv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descendr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entr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mont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mour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naîtr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part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pass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ntr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st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tourn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ven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sort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tomb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ven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3080" y="2133720"/>
          <a:ext cx="6172200" cy="6602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je (j’)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i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ell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mm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on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êt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ez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ell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king the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st Particip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65152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-er verbs: parl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        parl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-ir verbs: part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i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         part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6699"/>
                </a:solidFill>
                <a:latin typeface="Verdana"/>
              </a:rPr>
              <a:t>-re verbs: attend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re</a:t>
            </a:r>
            <a:r>
              <a:rPr b="0" lang="en-AU" sz="2800" spc="-1" strike="noStrike">
                <a:solidFill>
                  <a:srgbClr val="006699"/>
                </a:solidFill>
                <a:latin typeface="Verdana"/>
              </a:rPr>
              <a:t>       attend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u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6699"/>
                </a:solidFill>
                <a:latin typeface="Verdana"/>
              </a:rPr>
              <a:t>Irregular verbs: Check verb wheel!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*Many -re verbs are irregular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Check the verb wheel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292640" y="248436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4076640" y="363528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076640" y="471636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agreement rule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If you use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in the Passé Composé the past participle must agree i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numb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gend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with the pers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Masculine – do not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Feminine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Masc. plural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Fem. Plural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5:57:27Z</dcterms:created>
  <dc:creator>Mary De Poorter</dc:creator>
  <dc:description/>
  <dc:language>en-US</dc:language>
  <cp:lastModifiedBy>Mary De Poorter</cp:lastModifiedBy>
  <dcterms:modified xsi:type="dcterms:W3CDTF">2009-05-13T04:03:47Z</dcterms:modified>
  <cp:revision>10</cp:revision>
  <dc:subject/>
  <dc:title>Passé Composé</dc:title>
</cp:coreProperties>
</file>